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727-0FC9-4C72-9AED-D68C7162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F5C-A16C-4E35-BF11-5B214B86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76D-E768-4A5C-8FA2-3C06381F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C73-8DBD-4F15-9C49-87C74D55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905-89BA-4AEF-B94F-EA48E30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8B4-31B1-4A80-8C78-5ABC1CA3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B44-9705-42CD-AD27-078108D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3DD-B614-4456-8816-5C96F18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73E-58E1-4CEC-B998-76428A0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3B0-8994-425F-9122-4717DC8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A3C-1D94-432D-B1F9-73DB2CA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0F5-F1D1-4310-8D67-C6BC3099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65F-872D-46B6-BA7D-CDFE337DFF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219320"/>
            <a:ext cx="7773840" cy="1440"/>
          </a:xfrm>
          <a:custGeom>
            <a:avLst/>
            <a:gdLst/>
            <a:ahLst/>
            <a:rect l="l" t="t" r="r" b="b"/>
            <a:pathLst>
              <a:path w="4897" h="1">
                <a:moveTo>
                  <a:pt x="0" y="0"/>
                </a:moveTo>
                <a:lnTo>
                  <a:pt x="4896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14600" y="1067040"/>
            <a:ext cx="4038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ugestaltung Tarifrecht öffentlicher 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001000" y="5943600"/>
          <a:ext cx="5461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943600"/>
                    <a:ext cx="54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vertrag zur Überleitung der Beschäftigten im öffentlichen Diens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rag Kurt Mart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handlungskommission 10. Juni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2F7-3CCC-4794-B98A-6C6F6ADC8D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Tarifru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inderzuschläge für alle bis zum 31.12.2005 geborenen Kinder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Redaktionsverhandlung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estlegung unschädlicher Unterbrech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für übernommen Auszubildende, SchülerInnen, PraktikantI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bfindung ab vollendeten 16. Lebensjahr mög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F8E-6AD5-464E-9D28-4BD070960F8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gütungsgruppenzulag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ver.d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gütungsgruppenzulagen werden auch zukünftig gezah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Arbeitgeb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eine Zahlungen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ießen in das Vergleichsentgelt e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nur für EG 3, 5, 6, 8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unter bestimmten Voraussetzung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C30-4FCC-4F42-9F04-A71DD294D0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gütungsgruppenzulag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tzstandzulage für alle die derzeit Zulage erhal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ne vorausgehenden Fallgruppenaufstieg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hlung erfolgt zum individuellen Zeitpunkt wenn Hälfte der 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Anschluss an Fallgruppenaufstie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noch nicht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ächsthöhere EG zum individuellen Zeitpunkt wenn Hälfte der Zeit erfüllt - Keine Zulage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bereits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ulage zum individuellen Zeitpunkt wenn Hälfte der Gesamt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7CD-2B4C-48CC-B238-6B26999F86A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ver.di-Forder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fallklausel für den Fall, dass keine neue Entgeltordnung bis zum 31.12.2007 verhandelt 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gefallene Bewährungsaufstiege werden für alle ab 1.10.2007 nachgeho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Arbeitgeber-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leichwertigkeit der Gegen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ternativ: 60 % Jahressonderzahlung für alle,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gfall Strukturausgleich oder Verschiebung der Tarifrunde um 2 Jahre (Ab 1.1.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FE4-9C77-4B5C-9546-CDCF2F1A55E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zicht auf Rückfallklau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E29-3154-4DBB-A819-6332A770F67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ene 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ückfallebene Bereitschaftsz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malzahlung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 nicht endverhandelte Themen aus B4 und 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r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zeitkorr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e Einspa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ausgleiche KR - wird heute verhand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7AA-3617-4684-8BD3-B082BD7E0D3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s Vorge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Redaktionstermine vereinb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4.06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 TV öD - allgemeiner Abschnit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Arbeit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e Lenkungsgruppe - Klä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ener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N Abstimmungsproz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TK-Term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3. - 15.09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5. - 07.09. 2005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bhängig von Bundestags-Wa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24F-D883-4757-AB4D-171734624D2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tzung der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erhandlungskommissio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10. Juni 2005 - Berlin -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6400800" cy="13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BEB-88A2-45AF-89B3-6FB036CBE9F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Überblick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VöD-Ord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isher vorliegenden Texte zum TV-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sverhandlungen TVöD haben am 07.06. 2005 bego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iederung TVöD unter Punkt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nach Abschluss der Redaktionsverhandlungen notwend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ausgleiche, us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cheinung: ca. 3 Wo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270-CCE4-48A6-B65C-D7392A9A62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runde 2005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igung über neues Tarifre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malzahl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jährig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Stufensteigerung ab 01.10.2007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nahme: ArbeiterI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569-DB06-4E61-B6D0-16F707A872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zen über Inhalt der Vereinbarung v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Februar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uche der Arbeitgeber zusätzliche Einsparungen zu realisie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DCA-894C-4236-8BBF-1A3084931F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br>
              <a:rPr sz="20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- Bewährungsaufstie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3, 5, 6, 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nicht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öhergruppierung erfolgt zum individuellen Zeitpunkt, wenn Bewährung zur Hälfte erfül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2, 9 -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eib in den jeweiligen 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Bewährungsaufstieg bei Überleitung noch nicht vollzo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teilsausgleichsregelung erforderlich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3B1-CFA5-4098-A108-8F7320BE17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ition Arbeitge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atorium Bestandteil der Gesamteinig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: Lösung nur mit K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KA: Keine Änderung weg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u hoher Kost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ND: „Paket-Angebot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ffnung Morato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nahme der „Stufe-3-Regel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DC8-A1AF-41C3-8603-8DCF08A10E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scheidung Lenkungsgruppe am 31.5. / 1.6.2005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 des Paket-Ange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forderung an VKA: Gleiche Rege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nahme durch VKA am späten Abend des 1.6.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96A-11E5-420D-9FF8-1AA7BFC277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er.di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bis zum 31.12.2005 geborenen K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ientierung an Anspruchsvoraussetzungen Kindergeld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8D6-662F-4C6D-A9AD-E1F72BAC32D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rbeitgeber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für ununterbrochene Zahlung Kinder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übergeleiteten Beschäftigten und deren Kinder die bis zum 31.12.2005 gebor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indungsmög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582-91E2-48A1-AA99-A899AD08CA7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5:27:28Z</dcterms:created>
  <dc:creator>Niko Stumpfögger Ressort 1</dc:creator>
  <dc:description/>
  <dc:language>en-US</dc:language>
  <cp:lastModifiedBy>deraabe</cp:lastModifiedBy>
  <cp:lastPrinted>2005-06-09T15:17:27Z</cp:lastPrinted>
  <dcterms:modified xsi:type="dcterms:W3CDTF">2005-06-09T15:51:26Z</dcterms:modified>
  <cp:revision>189</cp:revision>
  <dc:subject/>
  <dc:title>Wozu der Kongress?</dc:title>
</cp:coreProperties>
</file>